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753-2B3C-4FEA-8861-7DE1225A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545-248A-46DE-96C9-653E5101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DFB-DA85-427F-92BA-26A4691B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541-9B10-4AE8-BB48-E8E7C940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985F-8159-43A6-BECD-BB1DC801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80F5-9210-4716-9813-ED70D740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98D2-DD30-4648-94CD-9EAA66D1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FCA3-8DB0-4018-99C3-8A4AB2C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FE22-6601-4B39-959E-6001CD22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8322-ECC6-40D4-9EE7-A53C4E17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32B8-AA46-4333-B5BF-A0258DF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814-8A35-4F95-8744-08E93903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1AAE-AFE3-4DC6-A28E-668A22E8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12D4-053D-4652-811D-153B22B1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94A8-6E5B-4C04-B758-6A51A65D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D15F-D31C-4B57-94E9-6AC5CC37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3F55-19A5-4451-9BA0-67581067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7AC-F0B1-42E4-AB0D-FB68E033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BA8-C4AD-4F06-8676-12693A5C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8FB-F878-4B66-AFA2-A5D4168F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590-44C3-443F-8DD2-26BCCD8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1BC-9174-45E1-9D45-4DBE094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D2A-310B-41E6-9848-7FBF1E8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07F-8F83-4EC8-BEA9-AC226B2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08B7-2849-4B71-ADB8-0A4F0D10A3D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3585-DD16-407A-926C-A334C8A80AD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rfall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cholastic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cholastic.com/browse/learn.jsp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ading.ecb.org/index.html" TargetMode="External"/><Relationship Id="rId3" Type="http://schemas.openxmlformats.org/officeDocument/2006/relationships/hyperlink" Target="http://reading.ecb.org/index.html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4classroom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800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grating Technolog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o the Classroo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san Ikemoto &amp; Mary Mo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 &amp; 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troductions and Overvie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few of our favor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ime to explor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e discoveri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bjective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articipants will be introduced to several websites that support state standards and engage stude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www.starfall.c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www2.scholastic.c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“Student Activities” ta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3"/>
              </a:rPr>
              <a:t>reading.ecb.org/index.htm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" y="121932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http://www.internet4classrooms.com/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Explo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Objectives: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-443160">
              <a:spcBef>
                <a:spcPts val="799"/>
              </a:spcBef>
              <a:buClr>
                <a:srgbClr val="000066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nd at least three activities that you can use with your students tomorro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-443160">
              <a:spcBef>
                <a:spcPts val="799"/>
              </a:spcBef>
              <a:buClr>
                <a:srgbClr val="000066"/>
              </a:buClr>
              <a:buSzPct val="7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view accessing the student share driv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-443160">
              <a:spcBef>
                <a:spcPts val="799"/>
              </a:spcBef>
              <a:buClr>
                <a:srgbClr val="000066"/>
              </a:buClr>
              <a:buSzPct val="75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actice making desktop shortcuts to web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6:47:48Z</dcterms:created>
  <dc:creator>Susan.Ikemoto</dc:creator>
  <dc:description/>
  <cp:keywords/>
  <dc:language>en-US</dc:language>
  <cp:lastModifiedBy>Susan.Ikemoto</cp:lastModifiedBy>
  <dcterms:modified xsi:type="dcterms:W3CDTF">2009-01-04T21:13:12Z</dcterms:modified>
  <cp:revision>8</cp:revision>
  <dc:subject/>
  <dc:title>Integrating Technology  Into the Class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51033</vt:lpwstr>
  </property>
</Properties>
</file>